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14F-636F-4F53-8824-D23DE751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ECB-B0C6-4B4E-944F-8A725004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F9A-3251-41C9-94FC-99C8A276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194-C500-4619-A718-8459BD9F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2B2-05A6-49B7-AB39-429F7214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16D-7F99-408B-BA07-16EEA680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CFD-DD11-4673-8D50-182B7A1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CA1-60F2-4DD7-8820-8B138C4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5D8-5076-485D-BC0A-B39731EE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BDA-B8A9-4822-B4C7-F21966E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A88-02D4-4ADF-A622-611AC17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97C-56EC-483A-A08A-2C9B28A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7A1-0353-4DD0-93B7-C1B21E35FB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创业实践情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须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地点（具体地址、场地图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过程记录（具体时间、地点、图片及活动内容简要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费使用情况说明（附详细开支清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入与收益情况（附具体图表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在问题及改进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china</cp:lastModifiedBy>
  <dcterms:modified xsi:type="dcterms:W3CDTF">2014-12-10T02:27:08Z</dcterms:modified>
  <cp:revision>44</cp:revision>
  <dc:subject/>
  <dc:title>幻灯片 1</dc:title>
</cp:coreProperties>
</file>