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44B-2599-495A-9BA5-C4D0F79C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CE8-346C-4019-8EF9-ADD4466E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F9D4-980B-4B8A-916A-12DB296E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CFC-E69A-4C18-BA2A-D2126D2F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8E6-4CCA-46C5-97B6-C2FA4F40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3F0-473A-4CB2-8841-AE57177A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E9E-1C36-482C-83D0-EDFB5C5E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AE3-9447-48F6-B4DE-0EB55808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FC9-5E2C-4B4E-A28F-FADCEF38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E6A2-0552-4BB6-B2D0-AEF13175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A3B6-774B-45FB-81F6-86537400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A02-1635-4B4D-9799-AD835C09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BFA0-B08F-4D43-AD71-C0CD5DC8A8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2421000"/>
            <a:ext cx="7129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名称：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类别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□国家级      □自治区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负责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组成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指导教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所在单位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研究起止时间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：    年  月  日至    年  月  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答辩时间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年  月  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项目简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00-5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创业计划具体内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主体可展开，文字尽量精炼。可附加具体图表、数据进行辅助说明。可加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计划摘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企业介绍（或事业描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业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产品（服务）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员及组织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市场预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营销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财务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风险与风险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长与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8:57:47Z</dcterms:created>
  <dc:creator>微软用户</dc:creator>
  <dc:description/>
  <dc:language>en-US</dc:language>
  <cp:lastModifiedBy>微软用户</cp:lastModifiedBy>
  <dcterms:modified xsi:type="dcterms:W3CDTF">2013-04-22T00:49:35Z</dcterms:modified>
  <cp:revision>38</cp:revision>
  <dc:subject/>
  <dc:title>幻灯片 1</dc:title>
</cp:coreProperties>
</file>