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350E-8E3F-4C94-BB08-2CD9A60E1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65E9-1235-4E0D-AF9D-7F47228D4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C7DD-6BBE-43C6-94EB-AAC18E7F8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ED8F-852D-4DB1-8089-F47FF1310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59C9-E1A7-4C6A-96A9-F9B413738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E474-24E4-4E78-800E-1A668D295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A016-391B-4385-973C-67C67B177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38F4-81C5-4D21-87CC-FF210E9A9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BDEE-97C8-4695-95A2-AA38A3CB3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8343-96F2-4B2B-82D3-40C21988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272F-A058-4C65-9084-463340293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2725-1BF7-4740-A17D-73810372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C1A6A-7E12-48FD-ACC7-59B0F3F839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87280" y="2421000"/>
            <a:ext cx="71298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项目名称：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项目类别：  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□国家级          □自治区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项目负责人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项目组成员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指导教师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项目所在单位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研究起止时间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：    年  月  日至    年  月  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答辩时间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年  月  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、项目简介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00-50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字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二、项目研究内容及研究方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主体可展开，文字尽量精炼。请附以必要的数据、表格、图片。可加页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三、研究成果或研究结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主体可展开，文字尽量精炼。请附以必要的数据、表格、图片。可加页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四、收获、存在问题及经验教训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五、成果清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7T08:57:47Z</dcterms:created>
  <dc:creator>微软用户</dc:creator>
  <dc:description/>
  <dc:language>en-US</dc:language>
  <cp:lastModifiedBy>微软用户</cp:lastModifiedBy>
  <dcterms:modified xsi:type="dcterms:W3CDTF">2013-04-19T09:41:33Z</dcterms:modified>
  <cp:revision>26</cp:revision>
  <dc:subject/>
  <dc:title>幻灯片 1</dc:title>
</cp:coreProperties>
</file>